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3.jpeg" ContentType="image/jpeg"/>
  <Override PartName="/ppt/media/image1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318A-EB69-4861-83E0-21BE1A88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5716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5DAD-CD6E-463F-9685-CD99168C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152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0982-239E-419C-9AC9-BA1A2A10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7596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9436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7596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9436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DB07-FB16-4717-881B-D035A2CF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2F6F-6AE6-4FD3-B75A-380A0E7C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91CC-E309-43C8-B1E3-77A7D70D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31BD-437F-4C93-B8A9-FADBE165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470D-1991-4410-9C6D-2823D445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484F-56E8-448B-8EF1-D88CD000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47BD-3C7B-4F87-A9B5-1C873151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2141-A5D1-4B15-AA7A-F3560DC4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9548-09D2-469B-9EF9-D8E8E758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152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FE76-5F4B-4683-AD20-8AAAFF6B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3450-E688-4AA0-9734-1A9EDC87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5716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96AD-65EB-4211-9F20-D62C6EB3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152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75D2-A0CB-4159-917E-9AC221AA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7596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9436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7596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09436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BBB9-61A8-447C-8F60-59A10066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DD047-93AE-400C-837B-607AF795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BCB6F-7A11-439D-AE73-A5257C19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16DA1-8EFF-4388-8F04-647C5071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D1EA6-D25F-4253-A4C4-BB3EF836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F4242-DBB6-41F3-B7A9-7BC172D1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58BA-4DC1-4203-8F64-4404CBA7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5F0BA-DBA4-41EF-A3DC-1FA960F5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84F43-951E-4DD0-B086-DAB9AC80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7152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3C844-82F6-4E51-95CD-9CBCA0AD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B4B22-353C-40B7-A1E9-B4258DEF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55716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A4F11-C53C-45E2-8BAA-4AB3F194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97152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63A25-E4AE-40D2-806A-1C124609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77596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9436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77596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09436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FFC16-F8D0-4DA8-B01B-E9A44F79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EC263-0369-49E6-8493-D5B5D5C1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37BA6-25E3-4E56-909C-EDF60672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5FF69-6A15-480F-A912-15A6CF39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FC54-7F24-4984-80BD-31BC1231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D6BB1-EF8B-4603-AB96-16BEDDAA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0C5A0-BBC0-4F2D-AA33-9CA7D8DE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9CA58-C291-49D0-80E7-C0B88C00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00DAC-B79E-4A97-86AC-864E7EF5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97152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17509-ED04-4D82-8CDD-9A3DE634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E4239-8AAC-4706-99F6-FFF4CF29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55716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DFFBE-499E-4A63-9A7A-6BFEFAE8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97152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ABBA1-FBF3-4FE3-891C-07F7060F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77596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9436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77596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09436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25474-FE03-4AD7-9283-2FA8AA364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BE4F9-B967-4FBC-8C6D-4CB3940C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47DD-9EE1-4F01-8289-11FDD886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81634-1821-484B-B3DA-10E7C0F6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8D53A-C2A8-4ACC-BB7D-7FD364A9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73897-8A9B-47E6-B176-65FFF14A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0CD91-27FE-4A67-AAB9-9014EC01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2B6F6-82B5-4084-A03D-10FE1290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1189E-CCDC-4406-B783-B7C82D55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97152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438B6-7E70-4FCC-BBF3-BB56B793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5CD8F-DD2B-41D2-8A5F-DCDDA621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55716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19A12-539E-478E-B7FF-624B3B5F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397152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C0F18-DAFC-4528-BAB1-A00F1CB5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D3DA-CF02-4BC9-92DB-A9CE8060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77596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9436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77596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09436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54236-52F4-4557-A977-FCEA8164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3B96-0255-4DDB-944A-180F828C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152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3247-5534-4D7F-AC92-7F571088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654-9308-4C64-92A2-E331BB64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1f2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50141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50141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50141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FA85-D74D-4764-BDAC-B8C04FDFA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1f2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50141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50141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50141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269A-3601-4557-A31E-21F73FFA0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1f2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50141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50141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50141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93C1-82FB-4563-9786-956CA3FAF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1f2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50141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50141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50141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CBEC-0170-43C4-A40B-2C0751472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1f2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50141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50141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50141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A19A-0DFE-483F-8832-4A1533184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hyperlink" Target="http://www.animationfactory.com/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91120" y="228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1f28"/>
                </a:solidFill>
                <a:latin typeface="Calibri"/>
              </a:rPr>
              <a:t>HCS Pacing Guide Training</a:t>
            </a: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206" name="Subtitle 2"/>
          <p:cNvSpPr/>
          <p:nvPr/>
        </p:nvSpPr>
        <p:spPr>
          <a:xfrm>
            <a:off x="0" y="5029200"/>
            <a:ext cx="5257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141b"/>
                </a:solidFill>
                <a:latin typeface="Calibri"/>
              </a:rPr>
              <a:t>Elementary Instructional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141b"/>
                </a:solidFill>
                <a:latin typeface="Calibri"/>
              </a:rPr>
              <a:t>August 18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itle 1"/>
          <p:cNvSpPr/>
          <p:nvPr/>
        </p:nvSpPr>
        <p:spPr>
          <a:xfrm>
            <a:off x="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1f28"/>
                </a:solidFill>
                <a:latin typeface="Calibri"/>
              </a:rPr>
              <a:t>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Content Placeholder 2"/>
          <p:cNvSpPr/>
          <p:nvPr/>
        </p:nvSpPr>
        <p:spPr>
          <a:xfrm>
            <a:off x="228600" y="1523880"/>
            <a:ext cx="701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We must collaborate and document what we teach.  It should be a collaborative process to help all teachers understand what is being taught and learned throughout the student’s school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51051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1f28"/>
                </a:solidFill>
                <a:latin typeface="Calibri"/>
              </a:rPr>
              <a:t>TEAM &amp; INDIVIDUAL  </a:t>
            </a:r>
            <a:br>
              <a:rPr sz="4000"/>
            </a:br>
            <a:r>
              <a:rPr b="1" lang="en-US" sz="4000" spc="-1" strike="noStrike">
                <a:solidFill>
                  <a:srgbClr val="771f28"/>
                </a:solidFill>
                <a:latin typeface="Calibri"/>
              </a:rPr>
              <a:t>LESSON PLANNING</a:t>
            </a:r>
            <a:endParaRPr b="0" lang="en-US" sz="4000" spc="-1" strike="noStrike">
              <a:solidFill>
                <a:srgbClr val="771f2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0" y="0"/>
          <a:ext cx="9144000" cy="7209000"/>
        </p:xfrm>
        <a:graphic>
          <a:graphicData uri="http://schemas.openxmlformats.org/drawingml/2006/table">
            <a:tbl>
              <a:tblPr/>
              <a:tblGrid>
                <a:gridCol w="1981080"/>
                <a:gridCol w="990720"/>
                <a:gridCol w="441360"/>
                <a:gridCol w="1311120"/>
                <a:gridCol w="1371600"/>
                <a:gridCol w="1616040"/>
                <a:gridCol w="1432080"/>
              </a:tblGrid>
              <a:tr h="40788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eacher: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rade: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esson Plan for the Week of________________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gridSpan="7"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roup Planning Gu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c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cial Stud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4440"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Learning Targe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I CAN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5880"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What will students need to know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5520"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What will students be able to d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2920"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What implied knowledge or words need to be clarified for students to be successful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5880"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Essential Question: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5880"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Assessmen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4800"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Ref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able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"/>
          <p:cNvSpPr/>
          <p:nvPr/>
        </p:nvSpPr>
        <p:spPr>
          <a:xfrm>
            <a:off x="4800600" y="228600"/>
            <a:ext cx="1112760" cy="32400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TextBox 4"/>
          <p:cNvGrpSpPr/>
          <p:nvPr/>
        </p:nvGrpSpPr>
        <p:grpSpPr>
          <a:xfrm>
            <a:off x="3859200" y="1042920"/>
            <a:ext cx="1876320" cy="1395360"/>
            <a:chOff x="3859200" y="1042920"/>
            <a:chExt cx="1876320" cy="1395360"/>
          </a:xfrm>
        </p:grpSpPr>
        <p:pic>
          <p:nvPicPr>
            <p:cNvPr id="301" name="TextBox 4" descr=""/>
            <p:cNvPicPr/>
            <p:nvPr/>
          </p:nvPicPr>
          <p:blipFill>
            <a:blip r:embed="rId2"/>
            <a:stretch/>
          </p:blipFill>
          <p:spPr>
            <a:xfrm>
              <a:off x="3859200" y="1042920"/>
              <a:ext cx="187632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3886200" y="1066680"/>
              <a:ext cx="18288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Teachers will use assessment to build tailored lesson plans for their own classroom needs; duplicate plans are not permitte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3" name="Straight Arrow Connector 5"/>
          <p:cNvCxnSpPr>
            <a:endCxn id="299" idx="3"/>
          </p:cNvCxnSpPr>
          <p:nvPr/>
        </p:nvCxnSpPr>
        <p:spPr>
          <a:xfrm flipV="1">
            <a:off x="4951800" y="504000"/>
            <a:ext cx="11880" cy="56268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sp>
        <p:nvSpPr>
          <p:cNvPr id="304" name="Oval 11"/>
          <p:cNvSpPr/>
          <p:nvPr/>
        </p:nvSpPr>
        <p:spPr>
          <a:xfrm>
            <a:off x="152280" y="1905120"/>
            <a:ext cx="914400" cy="91440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TextBox 12"/>
          <p:cNvGrpSpPr/>
          <p:nvPr/>
        </p:nvGrpSpPr>
        <p:grpSpPr>
          <a:xfrm>
            <a:off x="1195560" y="2792520"/>
            <a:ext cx="1949400" cy="1033560"/>
            <a:chOff x="1195560" y="2792520"/>
            <a:chExt cx="1949400" cy="1033560"/>
          </a:xfrm>
        </p:grpSpPr>
        <p:pic>
          <p:nvPicPr>
            <p:cNvPr id="306" name="TextBox 12" descr=""/>
            <p:cNvPicPr/>
            <p:nvPr/>
          </p:nvPicPr>
          <p:blipFill>
            <a:blip r:embed="rId3"/>
            <a:stretch/>
          </p:blipFill>
          <p:spPr>
            <a:xfrm>
              <a:off x="1195560" y="2792520"/>
              <a:ext cx="194940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219320" y="2819520"/>
              <a:ext cx="19047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Teachers should plan ways to integrate skills and concepts  to maximize  instructional tim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8" name="Straight Arrow Connector 13"/>
          <p:cNvCxnSpPr/>
          <p:nvPr/>
        </p:nvCxnSpPr>
        <p:spPr>
          <a:xfrm flipH="1" flipV="1">
            <a:off x="914040" y="2734560"/>
            <a:ext cx="381600" cy="23724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sp>
        <p:nvSpPr>
          <p:cNvPr id="309" name="Oval 17"/>
          <p:cNvSpPr/>
          <p:nvPr/>
        </p:nvSpPr>
        <p:spPr>
          <a:xfrm>
            <a:off x="6172200" y="228600"/>
            <a:ext cx="990720" cy="45720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TextBox 18"/>
          <p:cNvGrpSpPr/>
          <p:nvPr/>
        </p:nvGrpSpPr>
        <p:grpSpPr>
          <a:xfrm>
            <a:off x="5919840" y="963720"/>
            <a:ext cx="1797120" cy="668520"/>
            <a:chOff x="5919840" y="963720"/>
            <a:chExt cx="1797120" cy="668520"/>
          </a:xfrm>
        </p:grpSpPr>
        <p:pic>
          <p:nvPicPr>
            <p:cNvPr id="311" name="TextBox 18" descr=""/>
            <p:cNvPicPr/>
            <p:nvPr/>
          </p:nvPicPr>
          <p:blipFill>
            <a:blip r:embed="rId4"/>
            <a:stretch/>
          </p:blipFill>
          <p:spPr>
            <a:xfrm>
              <a:off x="5919840" y="963720"/>
              <a:ext cx="17971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5943600" y="990720"/>
              <a:ext cx="1752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Closure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End of lesson reflectio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3" name="Straight Arrow Connector 19"/>
          <p:cNvCxnSpPr/>
          <p:nvPr/>
        </p:nvCxnSpPr>
        <p:spPr>
          <a:xfrm flipV="1">
            <a:off x="6629400" y="685080"/>
            <a:ext cx="2160" cy="30564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sp>
        <p:nvSpPr>
          <p:cNvPr id="314" name="Oval 21"/>
          <p:cNvSpPr/>
          <p:nvPr/>
        </p:nvSpPr>
        <p:spPr>
          <a:xfrm>
            <a:off x="1905120" y="228600"/>
            <a:ext cx="1143000" cy="38088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TextBox 22"/>
          <p:cNvGrpSpPr/>
          <p:nvPr/>
        </p:nvGrpSpPr>
        <p:grpSpPr>
          <a:xfrm>
            <a:off x="1268280" y="963720"/>
            <a:ext cx="1578240" cy="1398600"/>
            <a:chOff x="1268280" y="963720"/>
            <a:chExt cx="1578240" cy="1398600"/>
          </a:xfrm>
        </p:grpSpPr>
        <p:pic>
          <p:nvPicPr>
            <p:cNvPr id="316" name="TextBox 22" descr=""/>
            <p:cNvPicPr/>
            <p:nvPr/>
          </p:nvPicPr>
          <p:blipFill>
            <a:blip r:embed="rId5"/>
            <a:stretch/>
          </p:blipFill>
          <p:spPr>
            <a:xfrm>
              <a:off x="1268280" y="963720"/>
              <a:ext cx="157824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295280" y="990720"/>
              <a:ext cx="1533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Students work collaboratively in centers or workstations to complete a task.; Constructive Dialog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8" name="Straight Arrow Connector 23"/>
          <p:cNvCxnSpPr/>
          <p:nvPr/>
        </p:nvCxnSpPr>
        <p:spPr>
          <a:xfrm flipV="1">
            <a:off x="2056320" y="609120"/>
            <a:ext cx="229320" cy="45792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itle 1"/>
          <p:cNvSpPr/>
          <p:nvPr/>
        </p:nvSpPr>
        <p:spPr>
          <a:xfrm>
            <a:off x="0" y="0"/>
            <a:ext cx="7315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1f28"/>
                </a:solidFill>
                <a:latin typeface="Calibri"/>
              </a:rPr>
              <a:t>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Content Placeholder 2"/>
          <p:cNvSpPr/>
          <p:nvPr/>
        </p:nvSpPr>
        <p:spPr>
          <a:xfrm>
            <a:off x="0" y="533520"/>
            <a:ext cx="74674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Calibri"/>
              </a:rPr>
              <a:t>Diagnostic Assessment </a:t>
            </a:r>
            <a:r>
              <a:rPr b="0" lang="en-US" sz="2400" spc="-1" strike="noStrike">
                <a:solidFill>
                  <a:srgbClr val="50141b"/>
                </a:solidFill>
                <a:latin typeface="Calibri"/>
              </a:rPr>
              <a:t>is done before teac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141b"/>
                </a:solidFill>
                <a:latin typeface="Calibri"/>
              </a:rPr>
              <a:t>(beginning of year/ grading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Calibri"/>
              </a:rPr>
              <a:t>Formative Assessment</a:t>
            </a:r>
            <a:r>
              <a:rPr b="0" lang="en-US" sz="2400" spc="-1" strike="noStrike">
                <a:solidFill>
                  <a:srgbClr val="50141b"/>
                </a:solidFill>
                <a:latin typeface="Calibri"/>
              </a:rPr>
              <a:t> is done while students ar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141b"/>
                </a:solidFill>
                <a:latin typeface="Calibri"/>
              </a:rPr>
              <a:t>(dai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Calibri"/>
              </a:rPr>
              <a:t>Classroom Assessment</a:t>
            </a:r>
            <a:r>
              <a:rPr b="0" lang="en-US" sz="2400" spc="-1" strike="noStrike">
                <a:solidFill>
                  <a:srgbClr val="50141b"/>
                </a:solidFill>
                <a:latin typeface="Calibri"/>
              </a:rPr>
              <a:t> is done in multiple measures and is on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141b"/>
                </a:solidFill>
                <a:latin typeface="Calibri"/>
              </a:rPr>
              <a:t>(week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Calibri"/>
              </a:rPr>
              <a:t>Summative Assessment </a:t>
            </a:r>
            <a:r>
              <a:rPr b="0" lang="en-US" sz="2400" spc="-1" strike="noStrike">
                <a:solidFill>
                  <a:srgbClr val="50141b"/>
                </a:solidFill>
                <a:latin typeface="Calibri"/>
              </a:rPr>
              <a:t>is done after the teaching has take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141b"/>
                </a:solidFill>
                <a:latin typeface="Calibri"/>
              </a:rPr>
              <a:t>(end of year/ grading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3"/>
          <p:cNvSpPr/>
          <p:nvPr/>
        </p:nvSpPr>
        <p:spPr>
          <a:xfrm>
            <a:off x="228600" y="63244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1f28"/>
                </a:solidFill>
                <a:latin typeface="Arial"/>
              </a:rPr>
              <a:t>Do you know your assessments? – Matching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0" y="0"/>
          <a:ext cx="9144000" cy="6705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ative Assess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mmative Assess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2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curs during lear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curs at the end of an instructional 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Grad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grad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s a proc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a finished produ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s descriptive feedbac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s evaluative feedbac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continuo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ven at periodic interva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s for enhance lear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ves feedback of lear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s results to determine next ste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s results to evaluate and gra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323" name="Title 1"/>
          <p:cNvSpPr/>
          <p:nvPr/>
        </p:nvSpPr>
        <p:spPr>
          <a:xfrm>
            <a:off x="380880" y="6324480"/>
            <a:ext cx="82296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1f28"/>
                </a:solidFill>
                <a:latin typeface="Calibri"/>
              </a:rPr>
              <a:t>Monitoring What is Tau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Content Placeholder 2"/>
          <p:cNvSpPr/>
          <p:nvPr/>
        </p:nvSpPr>
        <p:spPr>
          <a:xfrm>
            <a:off x="0" y="609480"/>
            <a:ext cx="7238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50141b"/>
                </a:solidFill>
                <a:latin typeface="Calibri"/>
              </a:rPr>
              <a:t>“</a:t>
            </a:r>
            <a:r>
              <a:rPr b="1" lang="en-US" sz="4100" spc="-1" strike="noStrike">
                <a:solidFill>
                  <a:srgbClr val="50141b"/>
                </a:solidFill>
                <a:latin typeface="Calibri"/>
              </a:rPr>
              <a:t>Even with high standards, exemplary textbooks and powerful assessments, what really matters for learning is the interactions that take place in classrooms.”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- National Research Council (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7"/>
          <p:cNvSpPr/>
          <p:nvPr/>
        </p:nvSpPr>
        <p:spPr>
          <a:xfrm>
            <a:off x="2629080" y="19000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mplate Provid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8">
            <a:hlinkClick r:id="rId1"/>
          </p:cNvPr>
          <p:cNvSpPr/>
          <p:nvPr/>
        </p:nvSpPr>
        <p:spPr>
          <a:xfrm>
            <a:off x="1981080" y="293364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1866960" y="3424320"/>
            <a:ext cx="396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0,000 Downloadable PowerPoint Templates, Animated Clip Art, Backgrounds and Vid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2" descr="af_logo_long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2303640"/>
            <a:ext cx="601992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0" y="57182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1f28"/>
                </a:solidFill>
                <a:latin typeface="Calibri"/>
              </a:rPr>
              <a:t>Essenti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457200" y="190512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50141b"/>
                </a:solidFill>
                <a:latin typeface="Calibri"/>
              </a:rPr>
              <a:t>Do you know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50141b"/>
                </a:solidFill>
                <a:latin typeface="Calibri"/>
              </a:rPr>
              <a:t>where you’re going to?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tle 1"/>
          <p:cNvSpPr/>
          <p:nvPr/>
        </p:nvSpPr>
        <p:spPr>
          <a:xfrm>
            <a:off x="609480" y="5867280"/>
            <a:ext cx="8229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1f28"/>
                </a:solidFill>
                <a:latin typeface="Calibri"/>
              </a:rPr>
              <a:t>Essenti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tent Placeholder 2"/>
          <p:cNvSpPr/>
          <p:nvPr/>
        </p:nvSpPr>
        <p:spPr>
          <a:xfrm>
            <a:off x="685800" y="1828800"/>
            <a:ext cx="82296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An essential question is a thought provoking question. It promotes higher level thinking skills.  It starts with how, why, or which is b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                                                   </a:t>
            </a: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_ Jamie McKenz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Essential questions require analysis, interpretation, inference and/or sy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tle 1"/>
          <p:cNvSpPr/>
          <p:nvPr/>
        </p:nvSpPr>
        <p:spPr>
          <a:xfrm>
            <a:off x="990720" y="457200"/>
            <a:ext cx="607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771f28"/>
                </a:solidFill>
                <a:latin typeface="Calibri"/>
              </a:rPr>
              <a:t>Quote for the Da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tent Placeholder 2"/>
          <p:cNvSpPr/>
          <p:nvPr/>
        </p:nvSpPr>
        <p:spPr>
          <a:xfrm>
            <a:off x="152280" y="1143000"/>
            <a:ext cx="7239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50141b"/>
                </a:solidFill>
                <a:latin typeface="Calibri"/>
              </a:rPr>
              <a:t>A master can tell you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50141b"/>
                </a:solidFill>
                <a:latin typeface="Calibri"/>
              </a:rPr>
              <a:t>what he expects of you. </a:t>
            </a:r>
            <a:br>
              <a:rPr sz="5500"/>
            </a:br>
            <a:r>
              <a:rPr b="0" lang="en-US" sz="5500" spc="-1" strike="noStrike">
                <a:solidFill>
                  <a:srgbClr val="50141b"/>
                </a:solidFill>
                <a:latin typeface="Calibri"/>
              </a:rPr>
              <a:t>A teacher, though, awakens your own expectations.</a:t>
            </a:r>
            <a:br>
              <a:rPr sz="3200"/>
            </a:b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41b"/>
                </a:solidFill>
                <a:latin typeface="Calibri"/>
              </a:rPr>
              <a:t>Patricia N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tle 1"/>
          <p:cNvSpPr/>
          <p:nvPr/>
        </p:nvSpPr>
        <p:spPr>
          <a:xfrm>
            <a:off x="0" y="0"/>
            <a:ext cx="82296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1f28"/>
                </a:solidFill>
                <a:latin typeface="Calibri"/>
              </a:rPr>
              <a:t>Classroom Expect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ontent Placeholder 2"/>
          <p:cNvSpPr/>
          <p:nvPr/>
        </p:nvSpPr>
        <p:spPr>
          <a:xfrm>
            <a:off x="0" y="1222200"/>
            <a:ext cx="73152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141b"/>
                </a:solidFill>
                <a:latin typeface="Calibri"/>
              </a:rPr>
              <a:t>Develop an understanding of what the standards mean and know which activities should be used to teach th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141b"/>
                </a:solidFill>
                <a:latin typeface="Calibri"/>
              </a:rPr>
              <a:t>Improve reading skil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141b"/>
                </a:solidFill>
                <a:latin typeface="Calibri"/>
              </a:rPr>
              <a:t>Include differentiation methods in daily instruc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141b"/>
                </a:solidFill>
                <a:latin typeface="Calibri"/>
              </a:rPr>
              <a:t>Enhance instruction using challenge and rig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141b"/>
                </a:solidFill>
                <a:latin typeface="Calibri"/>
              </a:rPr>
              <a:t>Rely more on formative assess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141b"/>
                </a:solidFill>
                <a:latin typeface="Calibri"/>
              </a:rPr>
              <a:t>Develop systematic, easy ways to interpret and us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tle 3"/>
          <p:cNvSpPr/>
          <p:nvPr/>
        </p:nvSpPr>
        <p:spPr>
          <a:xfrm>
            <a:off x="0" y="53352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1f28"/>
                </a:solidFill>
                <a:latin typeface="Calibri"/>
              </a:rPr>
              <a:t>The Pacing Guide Helps Teac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ontent Placeholder 2"/>
          <p:cNvSpPr/>
          <p:nvPr/>
        </p:nvSpPr>
        <p:spPr>
          <a:xfrm>
            <a:off x="0" y="12193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0141b"/>
                </a:solidFill>
                <a:latin typeface="Calibri"/>
              </a:rPr>
              <a:t>1.  Pacing helps the teacher to </a:t>
            </a:r>
            <a:r>
              <a:rPr b="1" lang="en-US" sz="3300" spc="-1" strike="noStrike">
                <a:solidFill>
                  <a:srgbClr val="50141b"/>
                </a:solidFill>
                <a:latin typeface="Calibri"/>
              </a:rPr>
              <a:t>PLAN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0141b"/>
                </a:solidFill>
                <a:latin typeface="Calibri"/>
              </a:rPr>
              <a:t>2. Pacing prepares the teacher to </a:t>
            </a:r>
            <a:r>
              <a:rPr b="1" lang="en-US" sz="3300" spc="-1" strike="noStrike">
                <a:solidFill>
                  <a:srgbClr val="50141b"/>
                </a:solidFill>
                <a:latin typeface="Calibri"/>
              </a:rPr>
              <a:t>D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50141b"/>
                </a:solidFill>
                <a:latin typeface="Calibri"/>
              </a:rPr>
              <a:t>3. </a:t>
            </a:r>
            <a:r>
              <a:rPr b="0" lang="en-US" sz="3300" spc="-1" strike="noStrike">
                <a:solidFill>
                  <a:srgbClr val="50141b"/>
                </a:solidFill>
                <a:latin typeface="Calibri"/>
              </a:rPr>
              <a:t>Pacing prepares the teacher to </a:t>
            </a:r>
            <a:r>
              <a:rPr b="1" lang="en-US" sz="3300" spc="-1" strike="noStrike">
                <a:solidFill>
                  <a:srgbClr val="50141b"/>
                </a:solidFill>
                <a:latin typeface="Calibri"/>
              </a:rPr>
              <a:t>CHECK</a:t>
            </a:r>
            <a:r>
              <a:rPr b="0" lang="en-US" sz="3300" spc="-1" strike="noStrike">
                <a:solidFill>
                  <a:srgbClr val="50141b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0141b"/>
                </a:solidFill>
                <a:latin typeface="Calibri"/>
              </a:rPr>
              <a:t>4. Pacing prepares the teacher to </a:t>
            </a:r>
            <a:r>
              <a:rPr b="1" lang="en-US" sz="3300" spc="-1" strike="noStrike">
                <a:solidFill>
                  <a:srgbClr val="50141b"/>
                </a:solidFill>
                <a:latin typeface="Calibri"/>
              </a:rPr>
              <a:t>AC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50141b"/>
                </a:solidFill>
                <a:latin typeface="Calibri"/>
              </a:rPr>
              <a:t>Pacing Guides can be found 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50141b"/>
                </a:solidFill>
                <a:latin typeface="Calibri"/>
              </a:rPr>
              <a:t>http://hcsresources.wikispaces.co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0" y="152280"/>
          <a:ext cx="9144000" cy="6564600"/>
        </p:xfrm>
        <a:graphic>
          <a:graphicData uri="http://schemas.openxmlformats.org/drawingml/2006/table">
            <a:tbl>
              <a:tblPr/>
              <a:tblGrid>
                <a:gridCol w="1295280"/>
                <a:gridCol w="1447920"/>
                <a:gridCol w="1442880"/>
                <a:gridCol w="690840"/>
                <a:gridCol w="2350800"/>
                <a:gridCol w="1916280"/>
              </a:tblGrid>
              <a:tr h="182520">
                <a:tc gridSpan="3">
                  <a:txBody>
                    <a:bodyPr lIns="2880" rIns="2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irst Six Wee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2880" rIns="2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eek Five – September 26 - September 30, 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6">
                  <a:txBody>
                    <a:bodyPr lIns="2880" rIns="2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nstructional Foc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37280">
                <a:tc>
                  <a:txBody>
                    <a:bodyPr lIns="2880" rIns="2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d96b77"/>
                          </a:solidFill>
                          <a:latin typeface="Times New Roman"/>
                          <a:ea typeface="Calibri"/>
                        </a:rPr>
                        <a:t>Story Theme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d96b77"/>
                          </a:solidFill>
                          <a:latin typeface="Times New Roman"/>
                          <a:ea typeface="Calibri"/>
                        </a:rPr>
                        <a:t>Connections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d96b77"/>
                          </a:solidFill>
                          <a:uFillTx/>
                          <a:latin typeface="Times New Roman"/>
                          <a:ea typeface="Calibri"/>
                        </a:rPr>
                        <a:t>Trade Books/ Gen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d96b77"/>
                          </a:solidFill>
                          <a:uFillTx/>
                          <a:latin typeface="Times New Roman"/>
                          <a:ea typeface="Calibri"/>
                        </a:rPr>
                        <a:t>Poe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d96b77"/>
                          </a:solidFill>
                          <a:uFillTx/>
                          <a:latin typeface="Times New Roman"/>
                          <a:ea typeface="Calibri"/>
                        </a:rPr>
                        <a:t>Informational Tex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d96b77"/>
                          </a:solidFill>
                          <a:uFillTx/>
                          <a:latin typeface="Times New Roman"/>
                          <a:ea typeface="Calibri"/>
                        </a:rPr>
                        <a:t>Nonfi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d96b77"/>
                          </a:solidFill>
                          <a:uFillTx/>
                          <a:latin typeface="Times New Roman"/>
                          <a:ea typeface="Calibri"/>
                        </a:rPr>
                        <a:t>Fic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" rIns="2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7f7f7f"/>
                          </a:solidFill>
                          <a:uFillTx/>
                          <a:latin typeface="Times New Roman"/>
                          <a:ea typeface="Calibri"/>
                        </a:rPr>
                        <a:t>Phonics/ Spell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Long  </a:t>
                      </a:r>
                      <a:r>
                        <a:rPr b="0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i 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Spelled </a:t>
                      </a:r>
                      <a:r>
                        <a:rPr b="0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i, ie, 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Plural nouns</a:t>
                      </a:r>
                      <a:r>
                        <a:rPr b="0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with</a:t>
                      </a:r>
                      <a:r>
                        <a:rPr b="0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s 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and </a:t>
                      </a:r>
                      <a:r>
                        <a:rPr b="0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Vocabulary Strategy: Prefix mis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d96b77"/>
                          </a:solidFill>
                          <a:uFillTx/>
                          <a:latin typeface="Times New Roman"/>
                          <a:ea typeface="Calibri"/>
                        </a:rPr>
                        <a:t>Spelling Li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d96b77"/>
                          </a:solidFill>
                          <a:uFillTx/>
                          <a:latin typeface="Times New Roman"/>
                          <a:ea typeface="Calibri"/>
                        </a:rPr>
                        <a:t>High Frequency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880" rIns="2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7f7f7f"/>
                          </a:solidFill>
                          <a:uFillTx/>
                          <a:latin typeface="Times New Roman"/>
                          <a:ea typeface="Calibri"/>
                        </a:rPr>
                        <a:t>Phonemic Awaren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Obj. 1.05: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Use word reference materials (e.g., dictionary, glossary) to confirm decoding skills, verify spelling, and extend meanings of word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Obj. 1.06: 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Read independently daily from self-selected materials (consistent with the student’s independent reading level) to:  extend vocabular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CSS L.3.4d: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Use glossaries or beginning dictionaries, both print and digital, to determine or clarify the precise meaning of key words and phras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CSS L.3.6: </a:t>
                      </a:r>
                      <a:r>
                        <a:rPr b="0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Acquire and use accurately grade appropriate conversational, general academic and domain-specific words and phrases, including those that signal spatial and temporal relationships (e.g. After dinner that night we went looking for them.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7f7f7f"/>
                          </a:solidFill>
                          <a:uFillTx/>
                          <a:latin typeface="Times New Roman"/>
                          <a:ea typeface="Calibri"/>
                        </a:rPr>
                        <a:t>Litera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Obj. 3.01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Respond to fiction, nonfiction, poetry, and drama using interpretive, critical, and evaluative processes by: </a:t>
                      </a:r>
                      <a:r>
                        <a:rPr b="1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)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considering characters point of view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CSS SL.3.1a: </a:t>
                      </a:r>
                      <a:r>
                        <a:rPr b="0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ome to discussions prepared, having read or studied required material; explicitly draw on that preparation and other information known about the topic to explore ideas under discuss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7f7f7f"/>
                          </a:solidFill>
                          <a:uFillTx/>
                          <a:latin typeface="Times New Roman"/>
                          <a:ea typeface="Calibri"/>
                        </a:rPr>
                        <a:t>Comprehension Skil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Obj. 2.04:  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Identify and interpret elements of fiction and nonfiction and support by referencing the text to determine the: </a:t>
                      </a:r>
                      <a:r>
                        <a:rPr b="1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b)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plot, </a:t>
                      </a:r>
                      <a:r>
                        <a:rPr b="1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)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conflict, </a:t>
                      </a:r>
                      <a:r>
                        <a:rPr b="1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d)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sequence, </a:t>
                      </a:r>
                      <a:r>
                        <a:rPr b="1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e)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resolution, </a:t>
                      </a:r>
                      <a:r>
                        <a:rPr b="1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h)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cause and effect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Obj. 2.06: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Summarize main idea(s) from written or spoken texts using succinct languag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CSS RI.3.2: </a:t>
                      </a:r>
                      <a:r>
                        <a:rPr b="0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Determine the main ideas and supporting details of a text read aloud or information presented in diverse media and formats, including visually, quantitatively, and orall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CSS RI.3.8</a:t>
                      </a:r>
                      <a:r>
                        <a:rPr b="0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Describe the logical connection between particular sentences and paragraphs in a text </a:t>
                      </a:r>
                      <a:r>
                        <a:rPr b="0" i="1" lang="en-US" sz="9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(e.g., comparison, cause/effect, first/second/third in a sequence.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7f7f7f"/>
                          </a:solidFill>
                          <a:uFillTx/>
                          <a:latin typeface="Times New Roman"/>
                          <a:ea typeface="Calibri"/>
                        </a:rPr>
                        <a:t>Gram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Obj. 5.05: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Use a number of strategies for spelling (e.g., sound patterns, visual patterns, silent letters, lesson common letter grouping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CSS L.3.2e: </a:t>
                      </a:r>
                      <a:r>
                        <a:rPr b="0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Use conventional spelling for high-frequency and other studied words and for adding suffixes to base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d96b77"/>
                          </a:solidFill>
                          <a:uFillTx/>
                          <a:latin typeface="Times New Roman"/>
                          <a:ea typeface="Calibri"/>
                        </a:rPr>
                        <a:t>Guided Reading Grou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d96b77"/>
                          </a:solidFill>
                          <a:uFillTx/>
                          <a:latin typeface="Times New Roman"/>
                          <a:ea typeface="Calibri"/>
                        </a:rPr>
                        <a:t>Group 1: Leveled Rea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d96b77"/>
                          </a:solidFill>
                          <a:uFillTx/>
                          <a:latin typeface="Times New Roman"/>
                          <a:ea typeface="Calibri"/>
                        </a:rPr>
                        <a:t>Group 2: Leveled Rea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d96b77"/>
                          </a:solidFill>
                          <a:uFillTx/>
                          <a:latin typeface="Times New Roman"/>
                          <a:ea typeface="Calibri"/>
                        </a:rPr>
                        <a:t>Group 3: Leveled Rea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d96b77"/>
                          </a:solidFill>
                          <a:uFillTx/>
                          <a:latin typeface="Times New Roman"/>
                          <a:ea typeface="Calibri"/>
                        </a:rPr>
                        <a:t>Group 4: Leveled Rea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" rIns="2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7f7f7f"/>
                          </a:solidFill>
                          <a:uFillTx/>
                          <a:latin typeface="Times New Roman"/>
                          <a:ea typeface="Calibri"/>
                        </a:rPr>
                        <a:t>Handwriting/ Writ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Obj. 4.08: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Focus reflection and revision (with assistance) on target elements by: </a:t>
                      </a:r>
                      <a:r>
                        <a:rPr b="1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a)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adding descriptive words and phrases; </a:t>
                      </a:r>
                      <a:r>
                        <a:rPr b="1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b)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strengthening word choic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CSS L.3.3a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: </a:t>
                      </a:r>
                      <a:r>
                        <a:rPr b="0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hoose words and phrases for effec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7f7f7f"/>
                          </a:solidFill>
                          <a:uFillTx/>
                          <a:latin typeface="Times New Roman"/>
                          <a:ea typeface="Calibri"/>
                        </a:rPr>
                        <a:t>Spiral and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Obj. 5.02: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Use correct subject/verb agreement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Obj. 3.01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Respond to fiction, nonfiction, poetry, and drama using interpretive, critical, and evaluative processes by: </a:t>
                      </a:r>
                      <a:r>
                        <a:rPr b="1" i="1" lang="en-US" sz="9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a)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considering the differences among genres; </a:t>
                      </a:r>
                      <a:r>
                        <a:rPr b="1" i="1" lang="en-US" sz="9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b)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relating plot, setting, and characters to own experiences and idea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(Additional NC Standard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Oval 2"/>
          <p:cNvSpPr/>
          <p:nvPr/>
        </p:nvSpPr>
        <p:spPr>
          <a:xfrm>
            <a:off x="0" y="609480"/>
            <a:ext cx="1371600" cy="358164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4"/>
          <p:cNvCxnSpPr/>
          <p:nvPr/>
        </p:nvCxnSpPr>
        <p:spPr>
          <a:xfrm flipV="1">
            <a:off x="456120" y="4190400"/>
            <a:ext cx="229320" cy="106740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grpSp>
        <p:nvGrpSpPr>
          <p:cNvPr id="220" name="TextBox 5"/>
          <p:cNvGrpSpPr/>
          <p:nvPr/>
        </p:nvGrpSpPr>
        <p:grpSpPr>
          <a:xfrm>
            <a:off x="-23760" y="5310360"/>
            <a:ext cx="1797120" cy="1609560"/>
            <a:chOff x="-23760" y="5310360"/>
            <a:chExt cx="1797120" cy="1609560"/>
          </a:xfrm>
        </p:grpSpPr>
        <p:pic>
          <p:nvPicPr>
            <p:cNvPr id="221" name="TextBox 5" descr=""/>
            <p:cNvPicPr/>
            <p:nvPr/>
          </p:nvPicPr>
          <p:blipFill>
            <a:blip r:embed="rId1"/>
            <a:stretch/>
          </p:blipFill>
          <p:spPr>
            <a:xfrm>
              <a:off x="-23760" y="5310360"/>
              <a:ext cx="17971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0" y="5334120"/>
              <a:ext cx="17524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urlz MT"/>
                </a:rPr>
                <a:t>Teachers will select a variety of text for the week to increase student exposure and support theme u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Oval 6"/>
          <p:cNvSpPr/>
          <p:nvPr/>
        </p:nvSpPr>
        <p:spPr>
          <a:xfrm>
            <a:off x="1371600" y="914400"/>
            <a:ext cx="1371600" cy="358128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TextBox 7"/>
          <p:cNvGrpSpPr/>
          <p:nvPr/>
        </p:nvGrpSpPr>
        <p:grpSpPr>
          <a:xfrm>
            <a:off x="2030400" y="5230800"/>
            <a:ext cx="1798560" cy="1581120"/>
            <a:chOff x="2030400" y="5230800"/>
            <a:chExt cx="1798560" cy="1581120"/>
          </a:xfrm>
        </p:grpSpPr>
        <p:pic>
          <p:nvPicPr>
            <p:cNvPr id="225" name="TextBox 7" descr=""/>
            <p:cNvPicPr/>
            <p:nvPr/>
          </p:nvPicPr>
          <p:blipFill>
            <a:blip r:embed="rId2"/>
            <a:stretch/>
          </p:blipFill>
          <p:spPr>
            <a:xfrm>
              <a:off x="2030400" y="5230800"/>
              <a:ext cx="179856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057400" y="5257800"/>
              <a:ext cx="17524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Teachers will identify spelling words based on the Phonics/ Spelling Skill for the Week, as well as, vocabulary to support languag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7" name="Straight Arrow Connector 8"/>
          <p:cNvCxnSpPr/>
          <p:nvPr/>
        </p:nvCxnSpPr>
        <p:spPr>
          <a:xfrm flipH="1" flipV="1">
            <a:off x="2285280" y="4419360"/>
            <a:ext cx="229320" cy="76248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sp>
        <p:nvSpPr>
          <p:cNvPr id="228" name="Oval 11"/>
          <p:cNvSpPr/>
          <p:nvPr/>
        </p:nvSpPr>
        <p:spPr>
          <a:xfrm>
            <a:off x="1295280" y="457200"/>
            <a:ext cx="7543800" cy="38088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TextBox 12"/>
          <p:cNvGrpSpPr/>
          <p:nvPr/>
        </p:nvGrpSpPr>
        <p:grpSpPr>
          <a:xfrm>
            <a:off x="963720" y="128520"/>
            <a:ext cx="1798560" cy="316080"/>
            <a:chOff x="963720" y="128520"/>
            <a:chExt cx="1798560" cy="316080"/>
          </a:xfrm>
        </p:grpSpPr>
        <p:pic>
          <p:nvPicPr>
            <p:cNvPr id="230" name="TextBox 12" descr=""/>
            <p:cNvPicPr/>
            <p:nvPr/>
          </p:nvPicPr>
          <p:blipFill>
            <a:blip r:embed="rId3"/>
            <a:stretch/>
          </p:blipFill>
          <p:spPr>
            <a:xfrm>
              <a:off x="963720" y="128520"/>
              <a:ext cx="179856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990720" y="152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Literacy Compon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2" name="Straight Arrow Connector 14"/>
          <p:cNvCxnSpPr/>
          <p:nvPr/>
        </p:nvCxnSpPr>
        <p:spPr>
          <a:xfrm>
            <a:off x="1371600" y="457200"/>
            <a:ext cx="381600" cy="7668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sp>
        <p:nvSpPr>
          <p:cNvPr id="233" name="Oval 25"/>
          <p:cNvSpPr/>
          <p:nvPr/>
        </p:nvSpPr>
        <p:spPr>
          <a:xfrm>
            <a:off x="4800600" y="685800"/>
            <a:ext cx="2265480" cy="137160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TextBox 26"/>
          <p:cNvGrpSpPr/>
          <p:nvPr/>
        </p:nvGrpSpPr>
        <p:grpSpPr>
          <a:xfrm>
            <a:off x="3554280" y="2182680"/>
            <a:ext cx="2028960" cy="322560"/>
            <a:chOff x="3554280" y="2182680"/>
            <a:chExt cx="2028960" cy="322560"/>
          </a:xfrm>
        </p:grpSpPr>
        <p:pic>
          <p:nvPicPr>
            <p:cNvPr id="235" name="TextBox 26" descr=""/>
            <p:cNvPicPr/>
            <p:nvPr/>
          </p:nvPicPr>
          <p:blipFill>
            <a:blip r:embed="rId4"/>
            <a:stretch/>
          </p:blipFill>
          <p:spPr>
            <a:xfrm>
              <a:off x="3554280" y="2182680"/>
              <a:ext cx="2028960" cy="3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81280" y="2209680"/>
              <a:ext cx="198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NC SCOS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7" name="Straight Arrow Connector 27"/>
          <p:cNvCxnSpPr/>
          <p:nvPr/>
        </p:nvCxnSpPr>
        <p:spPr>
          <a:xfrm flipV="1">
            <a:off x="4648320" y="1751760"/>
            <a:ext cx="305280" cy="44532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grpSp>
        <p:nvGrpSpPr>
          <p:cNvPr id="238" name="TextBox 30"/>
          <p:cNvGrpSpPr/>
          <p:nvPr/>
        </p:nvGrpSpPr>
        <p:grpSpPr>
          <a:xfrm>
            <a:off x="3249720" y="3859200"/>
            <a:ext cx="1798560" cy="668520"/>
            <a:chOff x="3249720" y="3859200"/>
            <a:chExt cx="1798560" cy="668520"/>
          </a:xfrm>
        </p:grpSpPr>
        <p:pic>
          <p:nvPicPr>
            <p:cNvPr id="239" name="TextBox 30" descr=""/>
            <p:cNvPicPr/>
            <p:nvPr/>
          </p:nvPicPr>
          <p:blipFill>
            <a:blip r:embed="rId5"/>
            <a:stretch/>
          </p:blipFill>
          <p:spPr>
            <a:xfrm>
              <a:off x="3249720" y="3859200"/>
              <a:ext cx="17985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3276720" y="3886200"/>
              <a:ext cx="1752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Correspondi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Common Core Standar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41" name="Straight Arrow Connector 31"/>
          <p:cNvCxnSpPr/>
          <p:nvPr/>
        </p:nvCxnSpPr>
        <p:spPr>
          <a:xfrm flipV="1">
            <a:off x="4494600" y="3504960"/>
            <a:ext cx="381960" cy="38160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sp>
        <p:nvSpPr>
          <p:cNvPr id="242" name="Oval 33"/>
          <p:cNvSpPr/>
          <p:nvPr/>
        </p:nvSpPr>
        <p:spPr>
          <a:xfrm>
            <a:off x="4800600" y="2514600"/>
            <a:ext cx="2265480" cy="137160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5"/>
          <p:cNvSpPr/>
          <p:nvPr/>
        </p:nvSpPr>
        <p:spPr>
          <a:xfrm>
            <a:off x="4876920" y="5257800"/>
            <a:ext cx="2265120" cy="137160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36"/>
          <p:cNvCxnSpPr/>
          <p:nvPr/>
        </p:nvCxnSpPr>
        <p:spPr>
          <a:xfrm>
            <a:off x="7162560" y="5866920"/>
            <a:ext cx="229320" cy="252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grpSp>
        <p:nvGrpSpPr>
          <p:cNvPr id="245" name="TextBox 37"/>
          <p:cNvGrpSpPr/>
          <p:nvPr/>
        </p:nvGrpSpPr>
        <p:grpSpPr>
          <a:xfrm>
            <a:off x="7364520" y="5614920"/>
            <a:ext cx="1798560" cy="689040"/>
            <a:chOff x="7364520" y="5614920"/>
            <a:chExt cx="1798560" cy="689040"/>
          </a:xfrm>
        </p:grpSpPr>
        <p:pic>
          <p:nvPicPr>
            <p:cNvPr id="246" name="TextBox 37" descr=""/>
            <p:cNvPicPr/>
            <p:nvPr/>
          </p:nvPicPr>
          <p:blipFill>
            <a:blip r:embed="rId6"/>
            <a:stretch/>
          </p:blipFill>
          <p:spPr>
            <a:xfrm>
              <a:off x="7364520" y="5614920"/>
              <a:ext cx="17985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391520" y="5638680"/>
              <a:ext cx="1752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How will teachers differentiate for small group instruction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TextBox 40"/>
          <p:cNvGrpSpPr/>
          <p:nvPr/>
        </p:nvGrpSpPr>
        <p:grpSpPr>
          <a:xfrm>
            <a:off x="6986520" y="4011480"/>
            <a:ext cx="2024280" cy="1033560"/>
            <a:chOff x="6986520" y="4011480"/>
            <a:chExt cx="2024280" cy="1033560"/>
          </a:xfrm>
        </p:grpSpPr>
        <p:pic>
          <p:nvPicPr>
            <p:cNvPr id="249" name="TextBox 40" descr=""/>
            <p:cNvPicPr/>
            <p:nvPr/>
          </p:nvPicPr>
          <p:blipFill>
            <a:blip r:embed="rId7"/>
            <a:stretch/>
          </p:blipFill>
          <p:spPr>
            <a:xfrm>
              <a:off x="6986520" y="4011480"/>
              <a:ext cx="20242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010280" y="4038480"/>
              <a:ext cx="1981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Objectives to be reviewed.  Teachers may add to this list as determined by formative assessmen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1" name="Straight Arrow Connector 41"/>
          <p:cNvCxnSpPr/>
          <p:nvPr/>
        </p:nvCxnSpPr>
        <p:spPr>
          <a:xfrm flipV="1">
            <a:off x="8077320" y="3428280"/>
            <a:ext cx="2160" cy="61020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sp>
        <p:nvSpPr>
          <p:cNvPr id="252" name="Oval 42"/>
          <p:cNvSpPr/>
          <p:nvPr/>
        </p:nvSpPr>
        <p:spPr>
          <a:xfrm>
            <a:off x="6878520" y="2057400"/>
            <a:ext cx="2265480" cy="137160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2760"/>
                <a:gridCol w="2286000"/>
                <a:gridCol w="2282760"/>
                <a:gridCol w="2292480"/>
              </a:tblGrid>
              <a:tr h="685800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Ma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7f7f7f"/>
                          </a:solidFill>
                          <a:uFillTx/>
                          <a:latin typeface="Times New Roman"/>
                          <a:ea typeface="Calibri"/>
                        </a:rPr>
                        <a:t>Everyday Math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Activity 2, 5-Change Number Sto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Activity 2, 6-Comparison Number Sto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Activity 2, 7 –The Partial-Sums Algorith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Activity 2, 8-Subtraction Algorith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Objectives (NCSCOS)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1.01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- Develop number sense for whole numbers through 9,999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a.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onnect model, number word, and number using a variety of representation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1.02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- Develop fluency with multi-digit addition and subtraction through 9,999 using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a.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Strategies for adding and subtracting number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.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Relationships between operation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5.02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- Extend and find missing terms of repeating and growing pattern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5.04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- Find the value of the unknown in a number sentenc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ommon Core Standards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3.NBT.1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- Use place value understanding and properties of operations to perform multi-dig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NC DPI Indicators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Strategies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Vocabulary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Social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Obj. 1.02 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Recognize diverse local, state, and national leaders, past and present, who demonstrate responsible citizenshi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Obj. 2.03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Describe similarities and differences among communities in different times and in different plac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Obj. 3.01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Analyze changes, which have occurred in communities past and presen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CSS 3.G.1.2</a:t>
                      </a:r>
                      <a:r>
                        <a:rPr b="0" i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Compare the human and physical characteristics of place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Vocabulary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Sci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3.02 Observe that objects in the sky have patterns of movement including:  Sun, moon, star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3.06 Observe that patterns of stars in the sky stay the same although they appear to move across the sky nightl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CSS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ES 3.E.1.1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: </a:t>
                      </a:r>
                      <a:r>
                        <a:rPr b="0" i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Recognize that the earth is part of a system called the solar system that includes the sun (a star), planets, and many moons and the earth is the third planet from the sun in our solar system.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DPI Unit Lesson 15- Dipper Find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Lesson 16- Special Constellation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Students should be able to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Draw the Little Dipp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Label Polar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Vocabulary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Morning Meeting/ Daily Revie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4" name="Oval 2"/>
          <p:cNvSpPr/>
          <p:nvPr/>
        </p:nvSpPr>
        <p:spPr>
          <a:xfrm>
            <a:off x="0" y="1371600"/>
            <a:ext cx="2265480" cy="137160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TextBox 3"/>
          <p:cNvGrpSpPr/>
          <p:nvPr/>
        </p:nvGrpSpPr>
        <p:grpSpPr>
          <a:xfrm>
            <a:off x="2262240" y="1725480"/>
            <a:ext cx="2023920" cy="322560"/>
            <a:chOff x="2262240" y="1725480"/>
            <a:chExt cx="2023920" cy="322560"/>
          </a:xfrm>
        </p:grpSpPr>
        <p:pic>
          <p:nvPicPr>
            <p:cNvPr id="256" name="TextBox 3" descr=""/>
            <p:cNvPicPr/>
            <p:nvPr/>
          </p:nvPicPr>
          <p:blipFill>
            <a:blip r:embed="rId1"/>
            <a:stretch/>
          </p:blipFill>
          <p:spPr>
            <a:xfrm>
              <a:off x="2262240" y="1725480"/>
              <a:ext cx="2023920" cy="3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286000" y="1752480"/>
              <a:ext cx="19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Everyday Math Less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8" name="Straight Arrow Connector 4"/>
          <p:cNvCxnSpPr/>
          <p:nvPr/>
        </p:nvCxnSpPr>
        <p:spPr>
          <a:xfrm flipH="1" flipV="1">
            <a:off x="1980360" y="1447560"/>
            <a:ext cx="305640" cy="30528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sp>
        <p:nvSpPr>
          <p:cNvPr id="259" name="Oval 5"/>
          <p:cNvSpPr/>
          <p:nvPr/>
        </p:nvSpPr>
        <p:spPr>
          <a:xfrm>
            <a:off x="4495680" y="2590920"/>
            <a:ext cx="2265480" cy="137160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TextBox 6"/>
          <p:cNvGrpSpPr/>
          <p:nvPr/>
        </p:nvGrpSpPr>
        <p:grpSpPr>
          <a:xfrm>
            <a:off x="2487600" y="2639880"/>
            <a:ext cx="2028960" cy="322560"/>
            <a:chOff x="2487600" y="2639880"/>
            <a:chExt cx="2028960" cy="322560"/>
          </a:xfrm>
        </p:grpSpPr>
        <p:pic>
          <p:nvPicPr>
            <p:cNvPr id="261" name="TextBox 6" descr=""/>
            <p:cNvPicPr/>
            <p:nvPr/>
          </p:nvPicPr>
          <p:blipFill>
            <a:blip r:embed="rId2"/>
            <a:stretch/>
          </p:blipFill>
          <p:spPr>
            <a:xfrm>
              <a:off x="2487600" y="2639880"/>
              <a:ext cx="2028960" cy="3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2514600" y="2666880"/>
              <a:ext cx="19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NC SCOS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3" name="Straight Arrow Connector 7"/>
          <p:cNvCxnSpPr/>
          <p:nvPr/>
        </p:nvCxnSpPr>
        <p:spPr>
          <a:xfrm flipH="1" flipV="1">
            <a:off x="2057040" y="2437560"/>
            <a:ext cx="457920" cy="38196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sp>
        <p:nvSpPr>
          <p:cNvPr id="264" name="Oval 8"/>
          <p:cNvSpPr/>
          <p:nvPr/>
        </p:nvSpPr>
        <p:spPr>
          <a:xfrm>
            <a:off x="0" y="4343400"/>
            <a:ext cx="2265480" cy="137160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TextBox 9"/>
          <p:cNvGrpSpPr/>
          <p:nvPr/>
        </p:nvGrpSpPr>
        <p:grpSpPr>
          <a:xfrm>
            <a:off x="2182680" y="4316400"/>
            <a:ext cx="2028960" cy="668520"/>
            <a:chOff x="2182680" y="4316400"/>
            <a:chExt cx="2028960" cy="668520"/>
          </a:xfrm>
        </p:grpSpPr>
        <p:pic>
          <p:nvPicPr>
            <p:cNvPr id="266" name="TextBox 9" descr=""/>
            <p:cNvPicPr/>
            <p:nvPr/>
          </p:nvPicPr>
          <p:blipFill>
            <a:blip r:embed="rId3"/>
            <a:stretch/>
          </p:blipFill>
          <p:spPr>
            <a:xfrm>
              <a:off x="2182680" y="4316400"/>
              <a:ext cx="20289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2209680" y="4343400"/>
              <a:ext cx="19814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Correspondi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Common Core Standar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Straight Arrow Connector 10"/>
          <p:cNvCxnSpPr/>
          <p:nvPr/>
        </p:nvCxnSpPr>
        <p:spPr>
          <a:xfrm flipH="1">
            <a:off x="1523160" y="4570920"/>
            <a:ext cx="762840" cy="30564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sp>
        <p:nvSpPr>
          <p:cNvPr id="269" name="Oval 11"/>
          <p:cNvSpPr/>
          <p:nvPr/>
        </p:nvSpPr>
        <p:spPr>
          <a:xfrm>
            <a:off x="0" y="228600"/>
            <a:ext cx="2265480" cy="137160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TextBox 12"/>
          <p:cNvGrpSpPr/>
          <p:nvPr/>
        </p:nvGrpSpPr>
        <p:grpSpPr>
          <a:xfrm>
            <a:off x="4700520" y="1725480"/>
            <a:ext cx="2024280" cy="486000"/>
            <a:chOff x="4700520" y="1725480"/>
            <a:chExt cx="2024280" cy="486000"/>
          </a:xfrm>
        </p:grpSpPr>
        <p:pic>
          <p:nvPicPr>
            <p:cNvPr id="271" name="TextBox 12" descr=""/>
            <p:cNvPicPr/>
            <p:nvPr/>
          </p:nvPicPr>
          <p:blipFill>
            <a:blip r:embed="rId4"/>
            <a:stretch/>
          </p:blipFill>
          <p:spPr>
            <a:xfrm>
              <a:off x="4700520" y="1725480"/>
              <a:ext cx="2024280" cy="3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4724280" y="1752480"/>
              <a:ext cx="1981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Suggested Hands-On Activ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3" name="Straight Arrow Connector 13"/>
          <p:cNvCxnSpPr/>
          <p:nvPr/>
        </p:nvCxnSpPr>
        <p:spPr>
          <a:xfrm flipH="1">
            <a:off x="5637960" y="2133720"/>
            <a:ext cx="2520" cy="45792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sp>
        <p:nvSpPr>
          <p:cNvPr id="274" name="Oval 18"/>
          <p:cNvSpPr/>
          <p:nvPr/>
        </p:nvSpPr>
        <p:spPr>
          <a:xfrm>
            <a:off x="-152280" y="5486400"/>
            <a:ext cx="2265120" cy="137160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TextBox 19"/>
          <p:cNvGrpSpPr/>
          <p:nvPr/>
        </p:nvGrpSpPr>
        <p:grpSpPr>
          <a:xfrm>
            <a:off x="2262240" y="5840280"/>
            <a:ext cx="2023920" cy="851040"/>
            <a:chOff x="2262240" y="5840280"/>
            <a:chExt cx="2023920" cy="851040"/>
          </a:xfrm>
        </p:grpSpPr>
        <p:pic>
          <p:nvPicPr>
            <p:cNvPr id="276" name="TextBox 19" descr=""/>
            <p:cNvPicPr/>
            <p:nvPr/>
          </p:nvPicPr>
          <p:blipFill>
            <a:blip r:embed="rId5"/>
            <a:stretch/>
          </p:blipFill>
          <p:spPr>
            <a:xfrm>
              <a:off x="2262240" y="5840280"/>
              <a:ext cx="20239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2286000" y="5867280"/>
              <a:ext cx="19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Teachers will identify Indicators and Strategies to support weekly objectiv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8" name="Straight Arrow Connector 20"/>
          <p:cNvCxnSpPr/>
          <p:nvPr/>
        </p:nvCxnSpPr>
        <p:spPr>
          <a:xfrm flipH="1" flipV="1">
            <a:off x="1752120" y="6095160"/>
            <a:ext cx="610560" cy="252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sp>
        <p:nvSpPr>
          <p:cNvPr id="279" name="Oval 23"/>
          <p:cNvSpPr/>
          <p:nvPr/>
        </p:nvSpPr>
        <p:spPr>
          <a:xfrm>
            <a:off x="6878520" y="0"/>
            <a:ext cx="2265480" cy="45720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TextBox 24"/>
          <p:cNvGrpSpPr/>
          <p:nvPr/>
        </p:nvGrpSpPr>
        <p:grpSpPr>
          <a:xfrm>
            <a:off x="6986520" y="738360"/>
            <a:ext cx="2024280" cy="1760400"/>
            <a:chOff x="6986520" y="738360"/>
            <a:chExt cx="2024280" cy="1760400"/>
          </a:xfrm>
        </p:grpSpPr>
        <p:pic>
          <p:nvPicPr>
            <p:cNvPr id="281" name="TextBox 24" descr=""/>
            <p:cNvPicPr/>
            <p:nvPr/>
          </p:nvPicPr>
          <p:blipFill>
            <a:blip r:embed="rId6"/>
            <a:stretch/>
          </p:blipFill>
          <p:spPr>
            <a:xfrm>
              <a:off x="6986520" y="738360"/>
              <a:ext cx="2024280" cy="14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7010280" y="762120"/>
              <a:ext cx="1981440" cy="17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Teachers will plan a 15-20 minute class meeting to explain daily learning targets, review of previous day and/ or homework.  A reflection time should also be incorporated at the end of the day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3" name="Straight Arrow Connector 25"/>
          <p:cNvCxnSpPr/>
          <p:nvPr/>
        </p:nvCxnSpPr>
        <p:spPr>
          <a:xfrm flipV="1">
            <a:off x="7999560" y="457920"/>
            <a:ext cx="3600" cy="30564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sp>
        <p:nvSpPr>
          <p:cNvPr id="284" name="Oval 28"/>
          <p:cNvSpPr/>
          <p:nvPr/>
        </p:nvSpPr>
        <p:spPr>
          <a:xfrm>
            <a:off x="4495680" y="3962520"/>
            <a:ext cx="1219320" cy="38088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TextBox 29"/>
          <p:cNvGrpSpPr/>
          <p:nvPr/>
        </p:nvGrpSpPr>
        <p:grpSpPr>
          <a:xfrm>
            <a:off x="5535720" y="4548240"/>
            <a:ext cx="1798560" cy="689040"/>
            <a:chOff x="5535720" y="4548240"/>
            <a:chExt cx="1798560" cy="689040"/>
          </a:xfrm>
        </p:grpSpPr>
        <p:pic>
          <p:nvPicPr>
            <p:cNvPr id="286" name="TextBox 29" descr=""/>
            <p:cNvPicPr/>
            <p:nvPr/>
          </p:nvPicPr>
          <p:blipFill>
            <a:blip r:embed="rId7"/>
            <a:stretch/>
          </p:blipFill>
          <p:spPr>
            <a:xfrm>
              <a:off x="5535720" y="4548240"/>
              <a:ext cx="17985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562720" y="4572000"/>
              <a:ext cx="1752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Teachers will identify key vocabulary terms for each subject are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8" name="Straight Arrow Connector 30"/>
          <p:cNvCxnSpPr/>
          <p:nvPr/>
        </p:nvCxnSpPr>
        <p:spPr>
          <a:xfrm flipH="1" flipV="1">
            <a:off x="5257080" y="4342680"/>
            <a:ext cx="415080" cy="30564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Content Placeholder 3" descr="H:\FANNI\COLLABORAT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6b9f25"/>
            </a:solidFill>
            <a:miter/>
          </a:ln>
        </p:spPr>
      </p:pic>
      <p:sp>
        <p:nvSpPr>
          <p:cNvPr id="290" name="TextBox 2"/>
          <p:cNvSpPr/>
          <p:nvPr/>
        </p:nvSpPr>
        <p:spPr>
          <a:xfrm>
            <a:off x="4114800" y="1600200"/>
            <a:ext cx="236232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room Tea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304920" y="1523880"/>
            <a:ext cx="205740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7467480" y="1523880"/>
            <a:ext cx="167652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al C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4:32:21Z</dcterms:created>
  <dc:creator>mcclainl</dc:creator>
  <dc:description/>
  <dc:language>en-US</dc:language>
  <cp:lastModifiedBy>TECH</cp:lastModifiedBy>
  <dcterms:modified xsi:type="dcterms:W3CDTF">2011-08-16T15:12:46Z</dcterms:modified>
  <cp:revision>37</cp:revision>
  <dc:subject/>
  <dc:title>HCS Pacing Guide 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368051033</vt:lpwstr>
  </property>
</Properties>
</file>